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000B-564E-472B-A7D8-2C07ED3F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1DF3-ECE2-4CE8-A8B6-4F92809E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0BCDB-8243-4F31-9B5B-615DF47E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A0E09-42AE-42D3-9F07-0C11E760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15863-A2D4-467A-B2A0-400F23C5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FF896-BF18-4AE1-9370-E2930B75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F2B21-923A-41F5-BAAC-D59DDD7A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14D8B-F864-4D4F-8A0D-C63F616A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BE0B9-0D13-4C7D-8EC1-5D38376F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52307-134A-4B11-8421-F7F38922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A8BD6-5CF7-44F1-AAD6-97C5B4C6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AF6E-02F4-4A63-81AE-C6A7BA90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2DD-EA41-4A9B-9A0E-BA460128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D596-092B-4DCC-B0D2-3678E5E0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5090-B8C1-4866-8114-B28EF385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4CD1-6281-497E-A911-682CDDCF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0F5B-0A77-4587-B37F-C6273631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E180-27AC-4A64-96E6-F550AAB2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2EEE-A407-456E-84A5-BCBC1AE6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A91D-CDD5-4650-AC73-AE3C230E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E3C0-1498-436E-B91B-6B441ACD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527E-6779-4E5D-9D9C-F9D9B789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F1C0-7719-42FC-9BC3-D734B412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8412-CFC2-4BC9-8269-F9FC2BF7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4EDD-30DA-460F-858E-DA248328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2A4F-C85D-445B-B4D0-5882E007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B0443-8A67-4A36-9038-1FE32570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FD1D1-8485-4837-A223-7F435E60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E6F68-3327-4B40-85FD-85DED11D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315D3-7CFA-49ED-AD7C-097CA141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36E85-FC3D-4A52-93A8-A21EECDC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A9E-3B5C-42A4-85C1-DFD6CBEE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33496-F086-426D-9666-7BE59E4A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C8B21-7B02-4AAE-828B-DE27D5D3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BBA8D-FB9E-4061-8E25-1D713F0D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74DA0-C08C-4566-AB6C-D49FD75D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B2B63-9D8D-410B-84F7-514A68EB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8B3D8-F3BE-4CED-AC1F-DC4046AD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E5165-1C34-4D5D-9963-AE2298AD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911E6-48E8-4B0E-BF97-A497EAA0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21080-E9E3-4636-90B6-A928C9A2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ABB84-E3D7-4B42-9896-7F7B6331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3F02-1ADE-4617-85E6-CBD1C84B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96FB4-2D17-49BC-A3D4-08AD1CFE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6A8C4-AD4D-45BA-912F-F47E4BF1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83BAB-DD66-48FE-9CC3-B48458E9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5312D-DD82-490B-B39C-3FA28E73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54B55-3C31-4995-84E8-174C2A6F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6650E-294F-4020-9738-E6B05E5E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ECB1C-CF1F-43D9-9348-4B6165E4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9ED61-6C0B-49D6-95D8-6BD55615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4EAFF-CC58-470A-96C9-B4EBBDD6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2EA9C-BDB9-447F-BAB6-2CA5A438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0C97-AB9C-41AE-830E-BD662139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299E7-60EF-45E3-B730-3FE004E4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7D02F-5A77-45C1-B075-F20D1FDB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742FE-CA58-43F3-9AB8-FFEFA01C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36924-033B-4D0C-8D5C-F37853E1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6E511-0C97-43BA-833F-59E96C3B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23A29-7F54-439C-A1FF-B5BD7558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58516-2510-4649-B508-60AD2325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28817-BB70-4B63-83BB-D4F50ABD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7564D-3127-4C77-BA62-4C6FC493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25C2A-E126-4114-B3BF-A60DF43C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0194-2593-411B-AB1B-5D2DBD56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C8FE2-4769-49EA-897C-26F3921E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AD3EF-7346-422A-A139-9A41D1F3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4711E-9BE0-4DAC-8F5D-327838EE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EEDC9-2022-43BD-9553-26189F53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6739E-A9C1-460F-8322-28146A59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711EF-9582-4C78-86FF-828F3E1E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BDFE0-B3B8-4CEC-A0B2-DFDCFA6E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1D9EF-F4D9-4890-A061-49304B7B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D69A4-B813-48A6-9E4B-F7BE61A0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E1F98-B80A-4AA9-8275-EBDEA32B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8232-BB5A-4D1D-A111-37520B6D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2AD79-1BD2-4DBB-B6D7-CE1960D7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0AFDA-BE13-44DE-8E45-2FED86E0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456C2-5170-40F0-8E89-811F07F3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96C7F-1132-4755-BB5E-CC0ACCD9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3D73A-533E-424F-AF82-AA8A1A11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DCAE5-BC81-464C-A4AE-AEAA6F24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F4C69-2F59-4213-86E0-49F422C4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5AEB5-6799-4A7D-8735-39AE9AA2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96868-33C5-41A6-ABE7-5080F4AA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4E825-79B9-494C-938B-68391876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96D9-0FBC-4E72-B7A7-ED7A1C1D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66A74-B619-43B7-805B-08751F89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68683-CD96-4131-A1D2-670484AA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5F84E-1CA1-4927-8E77-3F997256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0DF93-6FDD-4F5C-883B-7710FB72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E8B11-AF2C-4F9F-880E-C24557AB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73F26-44D1-40CE-AA49-72A12EB9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E9783-BA50-4342-928C-1C0BE767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DCA99-6B14-4F6F-B78C-00615A7F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329EF-7E25-4DD2-90DD-E2B1494D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C6884-C581-49BA-944E-41155037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FBC4-4A88-42F4-BC34-7C08F99E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B7C11-BBD9-4EA2-A756-2D608D35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7F73A-876F-49B0-B482-A5304B05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F3729-9B47-4541-87D9-2DEAFEEC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A21E8-93FA-40AC-904F-611803A2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7C94C-5E61-4C4F-914E-01144743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9F5CE-5B83-486F-9B63-A27CF0FC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D97A4-B003-47A2-A700-D4A1860B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771D9-B128-4578-8BF3-0FC3C431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EAADB-E487-4424-B788-DA46FEDF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B29C0-32CD-4433-9671-21FF7B3D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EA33-B925-4823-80EF-175A5D1A862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5A0D-6EC7-43A1-BC9D-AD06335E807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CBCC-83E8-4F5D-A843-5375A0708D8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C43C-7E0F-4215-872B-EE4AB8962C3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D65D-295E-4870-8C60-34BDFC3F083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2992-0DA4-4E40-B9B4-2A83AB4CD45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DA7D-EFA2-47AB-80B7-D39611E4EF8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43DA-E77D-4813-9DFB-1206D0F761E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91CB-2348-4BEA-9505-98A5DC93277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2840" y="4681440"/>
            <a:ext cx="8802720" cy="2536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7529"/>
                </a:solidFill>
                <a:latin typeface="Franklin Gothic Book"/>
              </a:rPr>
              <a:t>By: Rya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0" y="7621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 learned how to do formulas, for example  when I did = D3*D4 Enter then the computer magically did all the math for me. l learned how to research for things for collage, like backpacks, beds, and of course food. Last I learned how to ask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0" y="685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echnology I learned short cuts, for example control s is save, control c is copy, control z is undo, control p is print, and control v is paste. Also I found out how to insert formulas for the SUM or produced. Last I learned how to get the calculator on my computer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iv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"/>
          <p:cNvSpPr/>
          <p:nvPr/>
        </p:nvSpPr>
        <p:spPr>
          <a:xfrm>
            <a:off x="152280" y="533520"/>
            <a:ext cx="89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ject has changed me so much. For example at the beginning of the year I was a no nothing about computers, but now I feel like I know everything about computers. Plus now I feel like I am ready for collage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0" y="609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ecided to buy only the things I needed like a bed, computer, and backpack. I only bought the things I need because I would want money left over. Last I did not buy the most expensive computer, backpack, or bed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1:24Z</dcterms:created>
  <dc:creator>ITSUser</dc:creator>
  <dc:description/>
  <dc:language>en-US</dc:language>
  <cp:lastModifiedBy>ITSUser</cp:lastModifiedBy>
  <dcterms:modified xsi:type="dcterms:W3CDTF">2010-02-10T21:04:10Z</dcterms:modified>
  <cp:revision>8</cp:revision>
  <dc:subject/>
  <dc:title>College Planning Reflection</dc:title>
</cp:coreProperties>
</file>